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6CFB-5E5D-4C9F-BBFD-C5130376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DC0B-0578-446A-9007-E293F96C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A9BD8-BC1D-4687-9677-DA8B2B6E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208D1-E81B-4C17-9D85-D59C4118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A5DAE-90BE-4A20-9985-EC774389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592CD-06C4-4CAC-92FD-EA217F5D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C5F53-A007-479B-A2E0-51FFBF01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E66B6-D4D5-4DAD-B1DF-D18509AD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E1E9F-2EBB-45AE-9424-EB0DAF3C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69312-6033-423C-A9C0-A31D926E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7F702-DBD4-453E-AD91-FD893D51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CD1CC-5F0C-4276-80A0-1048B0EE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585-D9DD-40B7-8CB7-602081E5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B963B-F2C7-4CE2-A359-19104968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5E976-D74A-4B5D-8406-7E5C558F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C5FAD-8FB0-480E-86B5-3B5F1D34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61C4D-4262-4F83-A070-5981F6C0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D991A-9182-4B47-9E3F-758E81D8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5C024-8E47-44E3-B10B-8BBB4FFB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76A73-A130-4034-9760-86E63C68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48A03-562A-4143-BFB0-90BB3C1B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02192-B5D1-48FD-B507-21F8CB8C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722AF-6606-4595-8FA7-96432A56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9E1-4BD6-407B-8ADF-7AA90992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828A3-6DAA-464E-9DC5-10D4B4D8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12DD8-0BAF-4EE2-935E-A52E7111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BC1AD-968A-44C6-A64B-B1A7858F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2EFB3-F2C5-441A-A518-0012149A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43AD3-4C5C-4AD4-A2DC-F62956B3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6864F-9D26-469D-AC06-7CB33303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B9268-124F-4093-872F-058BBE49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4BE82-ADEA-4474-9D34-A69384DF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F0C66-B7C3-4C2C-89DA-B31DF847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2FD41-77A9-4B6E-BB0C-CA2266CF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0050-7EB4-4484-8405-40DD6C6A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C84FA-288C-44A4-A676-A8D72747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2AA47-35B4-4D18-96D3-60C1B844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DC776-57CF-4E84-A961-D5D655DA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9C586-F144-40E0-B999-C61CC0EC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569B9-7D38-4A47-9E85-E5A3BD9C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08AE1-6059-4BCD-941E-0F01EDD8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BAA2C-EE4A-4299-AC4A-D86C780A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EDED3-D97C-4537-B2A4-6F5966F4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6DCF2-7C55-4E1E-B883-2AD17CBA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B2885-EC62-4B31-88B6-69BBF5AA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A87F-9572-4D6E-9985-0DB0F62A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AF290-5870-40B8-89FA-5D810841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4729E-59FD-4212-9B8C-BC936856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ECD88-2032-4354-8D85-1443BD8C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99CFC-CE0D-4ABD-AF42-9F6836F0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D5AA4-6FA2-4276-996E-CC3A9A57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87F52-1EE2-4A27-80FC-ADCB68D5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90569-A74A-406D-8B60-29672142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16D3D-7FF4-4B1F-B228-49444C80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B6257-0621-42B3-980A-7C6224E8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DA65F-14E9-4AB3-A1D9-1AC1B08E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5C55-FFD8-415B-9773-C7E34A05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EB18E-1F49-426A-B9FE-9C4ED5FE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1AB556-64D5-4865-BCEE-FC5297EE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6C0ED-966B-4E02-B99D-1519ABE4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C9489-4B69-4FFA-BC16-F77E6A80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ED680-65AA-4B57-9320-1A3834C5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54DCE-926A-4F1F-8B28-106228EF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73370-2EFB-4CE9-80A1-84EAEC26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8386A-9A13-48B1-8FFC-2FA9A002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3E6443-5BD2-4A02-A07C-CB2767AE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A686C-5996-49A3-9560-BEC70E02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3110-F427-45AF-9D36-04D6EA44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32DF7-5070-47C8-B9BB-426C4A50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B3189-D526-4D90-AAB2-2C4E8C4D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003426-4579-4D7F-BDE9-8F5EE6A2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962110-135D-49ED-B06F-67751370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E516E-4BC4-40C9-BCC7-DA3C73D0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33EBB-3913-4056-BDA1-62B9142C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86FEC2-7A5D-4F12-BEAA-1682FD5B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E65BA-16D3-4CFA-B7E7-C15D9F53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D38F3-4B51-459D-BEDC-C50BBFE3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ED2B27-C3F3-40CC-A922-D09CF0F6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BC38-75D2-4657-8945-9F6B9231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8890B-C930-47BC-9F72-9DD67624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F03D89-542D-4FE6-B9FA-500AF3AF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8117DA-8AA4-45D5-B7E3-65592C67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26F83E-D98C-4E2E-AD8C-499A5FE8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E22835-5B51-47D2-B8AA-6FB99401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14512C-9D03-4D06-A9FE-431E54B7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64E24-809C-4512-8B55-8ED16021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6A5698-F1B5-4369-86A6-73C5534C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5B3E81-1838-4CC9-AA62-F0AFC4AD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EAB3E-888E-4003-8D1D-4F08A905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012D-3759-4707-8E38-9BEFD456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9E9595-2F4D-4D5A-923F-8DFC536A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D5F615-2D1D-4CAC-901C-71769A37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46567-B821-4DC3-BF62-63DC9893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246B0F-09A9-421D-8A76-9FC87F68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F4CC5D-B6CF-4945-A87D-57F511EF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78E24-3943-42C2-9952-3B37EDDB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BA9103-D7CC-4409-8896-9C566D5A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82344A-A2E1-469B-AADD-DD29CB8E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20CF4-4C82-4253-8FAB-468BCAF7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FCBDEB-7207-4E6B-8776-D0958D5B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AC8B-EC61-461D-9768-16269FAE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4BB7B0-3495-44C2-91AB-512B959E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8CBFED-DE7F-41E5-8F1D-EA6EEF94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DEAB4-F319-4381-85B6-76685962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69663B-325B-4816-80C6-7F03D880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90CAD6-9315-4874-B70A-19AFCB24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83C092-0C3B-494D-8206-C44AFB16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D11BB-7F14-47B0-976E-3A806C3E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AAE5EE-6944-4485-B7A4-D8A675E2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E8F233-6686-4D97-8B51-5F9BE036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B1F72A-8FD8-4DA9-96AE-7D138B45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545D-9A33-4622-82B8-6558F468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F05F-5A24-4089-A02F-445593DF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47E545-741F-406C-9514-6BF1865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5051B-5DDD-4BDE-BC84-F15D3EC4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014C4E-7D47-4502-893E-5EFE2982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C45489-BBCE-43A9-B913-63019A66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70FDF-5613-40CA-84A0-172B17AF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71B6E5-1470-4A2B-904E-7EC204E8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7B5D30-A724-41E7-9E86-CB2D2051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879216-F0ED-4491-97B1-E7F20D5B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3FB19B-21DA-4F55-A89B-BC864884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5646F8-366D-474C-A899-9D5D21E8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AC3B-BCA4-485A-B4FA-1D97A409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40D52-CD84-42CE-905C-A5FE22BF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339B2-2B9B-4402-8C31-0270CFD2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A30F74-14B4-43E0-B295-17DF7E36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2839F4-112F-4D14-A94B-0ED994D0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584CF0-30CC-4D45-A1FA-71615B38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6EA1E1-2100-421D-B626-18967B3A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9A32CD-9C97-47FB-979A-F0DD79DE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23F582-23E2-4FFD-927E-1F222E46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C45483-71D7-4F7F-9943-57F3CC95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9AEB4F-4B20-46CA-8814-C3E24081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0D67-58C3-4032-A5BD-85FC55D6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52A3A5-6984-4AE8-8EBB-6A508F87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B1EE4D-8DB6-4BC8-A838-5BD9C908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05B0F8-2A45-4A3E-8A14-2F9146E7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238FDF-DD3F-413C-ABEC-99FF80C5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341674-80EF-403D-A250-29C3D60D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674BF7-2BC0-439E-BB78-763648BA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35A34A-8866-45E0-93D6-6FCB3814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79E52B-E9EA-4014-8539-45225F8E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FE5A74-D409-4BAD-83ED-61322D2C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D6C61B-478C-4D5D-98AA-B5DE46CD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DFE4-28D3-4A87-B46D-246F6E02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F4EB3B-B91A-4566-B388-B5FD972B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C90AD0-0777-4609-8E7F-E73500AC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84F481-59F7-40CE-84D7-C70F26D1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5DA28A-2E5C-45B7-94E6-30E33A90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3FF42E-AF2A-40CB-AF59-4BCA46AD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55C09E-D70F-478A-8302-A46BC1D4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932E2D-2677-485E-A3FF-286144C5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730BBE-DA09-4729-8EEA-82BD3A8D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35C948-08B3-4901-B4BD-5B445485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EE6334-D51B-4D19-86C0-857A2123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0FF6-E6EC-4C57-A7C2-F3122F1B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F40739-D3DB-4391-B02F-17ED2A7E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EDC6AC-E62A-477B-88A1-2E413D9E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D23873-7700-4A7E-BCCD-DF4D828C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B3113C-3027-4B6C-AD71-DD93A7E2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0C32A0-50BD-4E07-96D2-178B3E80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130429-7EA0-4417-BF8A-B59C9553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B21284-49E3-4521-BAB3-2469FA02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9A3748-B34F-49F4-8B59-5A1A8255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4E46CD-34D5-4C0C-954E-120C893A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E46372-7D22-4042-A772-02EFFBBA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EA262-9013-4A1F-9618-6D08D869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EC8C40-DED2-4CBC-8BFF-F1088DEC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21C546-DE5E-4C4A-A998-E806D166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0EABC0-9BE7-45D0-9B5E-48D87FA0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1EBD7-59DC-4796-98B2-89B0ED1F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BC7E9-08DF-4243-AD90-90A48571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C46CF-382D-47D2-AD17-AEDCB81D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72AE7-6A5E-4F79-926A-94E3C936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8AD-8E54-4C97-8AC3-6DE4F0F6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26B64-FE57-41AB-B67B-DC148CF6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B06D-F365-4744-BFEB-CE17498F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F404-E31E-437F-B3CF-19DE6055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6B2A9-EAF8-44BC-B14D-1ABAC6E7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EE655-0266-4669-8A64-629846E7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8418E-5318-4E14-8C49-389E5CD7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2574-23B4-408B-8912-9FEAED22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8885D-83E6-483F-B4E2-030953F6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AD42-DB32-480E-9B88-A5610216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B8929-8BEA-4689-8853-4DE6AAB8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2F9-39CD-47DF-889C-237FF680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A417C-95F5-4E4B-A1A9-DECA2B37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E5CEA-6BE5-427E-8F5A-355A881E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8E398-14B7-4BCD-BF99-8767CBBE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CDD66-0F14-4106-B8F2-69DDCD8D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66688-D8F0-48C5-BB40-C2FEC495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BA2D4-1B46-44BE-AFB7-6551E8E5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372AC-BDE0-4601-8972-9B9ACEA8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732ED-032F-4954-B54D-205B0DB8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A9DD1-11B8-45DD-A8BB-BE76D1AA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22A57-7228-42C5-8F04-9A12F695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02C-4BE2-4C96-9F5D-D2AE7A76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5B4F5-37DD-4CB5-98AA-F3A60BA3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1773B-112C-4C36-B503-955043C2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83C02-B10A-47CE-8496-450E962C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974DE-AAC7-4882-A002-BC8F8414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7164D-4F02-47A0-AA2D-3A57D422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C29A9-E07A-4672-8451-A505AD55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4CF9E-F2C3-42E9-B596-0FE60D9D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AAF18-4B7F-47C2-AE14-31D8A234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CA053-751F-41C6-AEDB-DDB763D0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A99A5-22BD-4271-9862-43643F28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802-E7C9-4C39-8B65-E1CBC6F2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35574-CD66-4B59-9B20-E65193DC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A4223-5082-474C-9A87-D6221A12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BBBF6-B28F-470F-AFB9-2B83D18B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A17FA-6021-4460-918C-67288E3E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7C1E0-C9DB-49F6-928E-595C2B7C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5CD3E-7D78-436C-891E-2B0E0AD3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875EC-4CBD-4C65-8A4B-5CCA5D44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DD715-CBF1-4409-A2BD-BEF7A688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13A3C-1852-40F7-83F7-DC523101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AE588-1121-4854-B94F-750D0F15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62B-3B6D-421E-BC66-50729FCB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8D849-01BC-4F89-B7F8-A6690B1C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7B79E-D55A-410E-AD33-A57D3505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E2F80-E221-44ED-8E83-190AE5BC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2E647-141E-4857-85D3-FF88B335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9F814-AA25-475A-9BA2-605561F9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7408F-25FD-45CE-BCBD-065299B4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12613-2C97-4D8F-8809-7DCEADD9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5CCC1-44E4-4F31-92EB-6FEC0FEA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8EE11-68E6-4397-A9AB-1D9528EC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93B86-9875-4C10-8E31-50F1D4CE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62D-648A-46A1-B047-DFCF1D31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8F056-83CB-45B7-8797-3ED43667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50321-75C1-49B6-9522-ADD63A81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08471-7738-4E69-847A-7ED22D77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1A827-35D1-40C9-A880-C37881C0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C1B7C-FF33-466B-8CFF-02808D73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EFA9E-3D53-4302-BF6B-4C2A16D7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C631A-2888-477D-BA86-5D93B4B2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B4579-3466-4F7E-AF57-5EB2C14E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2D259-0434-4F43-A56C-3271DDC1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F17B9-E031-4B8D-86BB-E683C75B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0B0-D202-454C-AB6A-EBEF5203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4C540-2BB3-4158-9E8B-381E0B21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69985-92F3-4B1A-ABBE-9FEAA3CA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900D2-799D-41B2-AE51-E61777FF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2083E-3572-43B0-9DEA-EB676569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1A58F-2080-47F7-9F5E-1515FACE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A1FE6-0BCB-431A-A5D1-2E048839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18F84-2FC4-4D25-BFB0-BC103689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93974-92E7-408F-9C8A-9AB6F532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2C8CF-98DC-4FC7-B825-E6C38B84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D46C9-0E80-40F6-9B71-5AB48ACE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B6C8-0D02-4CD5-9FAE-8AA75C4342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C897-7093-42F9-B371-03233991C2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AAB8-D031-4ADF-86CE-CE48FFFF43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90DB-564E-47FE-B938-BAA3DB3072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E0BA-4843-4273-BE17-139155C33F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048A-1FE8-4917-A86C-6A2BFA85EE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F95D-C971-4167-8ECB-C686D86024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4FC7-4333-4739-96ED-D9836DB11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CBEA-0510-4659-AF74-A9CEC937A1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6840" y="305280"/>
            <a:ext cx="1312560" cy="1675440"/>
            <a:chOff x="6840" y="305280"/>
            <a:chExt cx="1312560" cy="167544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5440" y="135576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58480" y="391680"/>
              <a:ext cx="72864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0640" y="32292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4680" y="842760"/>
              <a:ext cx="40032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4040" y="149004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3DDB-8593-403C-9396-CDA9F52AB5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37E1-5A79-47F1-BAAA-1274EFC4E4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5440"/>
            <a:ext cx="1127520" cy="1044000"/>
            <a:chOff x="8055360" y="5725440"/>
            <a:chExt cx="1127520" cy="104400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040" y="5725440"/>
              <a:ext cx="597960" cy="968040"/>
              <a:chOff x="8456040" y="5725440"/>
              <a:chExt cx="59796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3920" y="632916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7120"/>
                <a:ext cx="544320" cy="42948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680" y="576576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720" y="6070680"/>
                <a:ext cx="299160" cy="23868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0680"/>
                <a:ext cx="32256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4040"/>
              <a:ext cx="1127520" cy="905400"/>
              <a:chOff x="8055360" y="586404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4840" y="5953320"/>
                <a:ext cx="544680" cy="7261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56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E52B-C25A-414E-8F68-E274C364EA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8B61-9009-4561-AB1B-5AF873EB44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1CDA-9418-43A5-B6B8-3700525ABA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A413-E136-452A-A90C-91924E72CE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120" y="5384520"/>
            <a:ext cx="997920" cy="1126800"/>
            <a:chOff x="18612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3680" y="5384520"/>
              <a:ext cx="616320" cy="1043640"/>
              <a:chOff x="283680" y="5384520"/>
              <a:chExt cx="616320" cy="104364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1080" y="604548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9320" y="5536800"/>
                <a:ext cx="545040" cy="42948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1560" y="5435280"/>
                <a:ext cx="221760" cy="1706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760" y="5771160"/>
                <a:ext cx="299520" cy="23868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480" y="6157800"/>
                <a:ext cx="32328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120" y="5572440"/>
              <a:ext cx="997920" cy="938880"/>
              <a:chOff x="186120" y="5572440"/>
              <a:chExt cx="997920" cy="93888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2320" y="5643000"/>
                <a:ext cx="544680" cy="72720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520" y="622008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2000" y="6239520"/>
                <a:ext cx="17460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71E5-1ACD-43A3-AA27-AF33213DF2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A82C-72F2-4C0D-8928-47437F12F6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76FD-3E98-4AFD-B7AF-6203227BEA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352E-CCFB-4697-AABB-F1CD6D9C3E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F60E-3AF6-45CE-9A5B-3DD6D933E8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29C6-6FDF-49DC-BB3F-3208ECCCE3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EA3F-5E1E-4186-88B4-9E77E36148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84AF-2D22-4258-AAAC-ABC6EE6F95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40E9-19D1-4550-88CC-BBBF548471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2F35-C6C6-4652-9B9F-769D2D0450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4680"/>
            <a:ext cx="2348280" cy="2297160"/>
            <a:chOff x="7144920" y="441468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2880" y="4414680"/>
              <a:ext cx="1362960" cy="2297160"/>
              <a:chOff x="7652880" y="441468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440" y="587124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040" y="475200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040" y="452736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160" y="526716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240" y="611820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90E8-1DA4-4316-9636-94E419A2C8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835A-E563-44F3-9973-96D9C533F9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EB7B-568C-4498-B2B7-3D5F8A38B9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646D-2A6F-47A5-B238-3E10120289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EC78-5E60-476C-80C7-34EF1B40F6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EA88-2B06-4B4B-AD06-F348A1BA0D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BB5B-310A-4B48-87C6-51EE12B1A1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5E0A-3EEA-4A81-86CD-E6D9F86F8F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D034-C271-4FCE-822B-ADBE4C097C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A50C-5F83-469F-BF0C-707E3DD9EC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1E74-CB06-460A-806A-83C30DD96A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BE58-6B59-4E53-B805-DE3DDA1E18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AE24-D977-4A62-AE80-DDF9226235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9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3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文本框 25" descr=""/>
          <p:cNvPicPr/>
          <p:nvPr/>
        </p:nvPicPr>
        <p:blipFill>
          <a:blip r:embed="rId2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47" descr=""/>
          <p:cNvPicPr/>
          <p:nvPr/>
        </p:nvPicPr>
        <p:blipFill>
          <a:blip r:embed="rId3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9" descr=""/>
          <p:cNvPicPr/>
          <p:nvPr/>
        </p:nvPicPr>
        <p:blipFill>
          <a:blip r:embed="rId4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51" descr=""/>
          <p:cNvPicPr/>
          <p:nvPr/>
        </p:nvPicPr>
        <p:blipFill>
          <a:blip r:embed="rId5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2" name="组合 5" descr=""/>
          <p:cNvPicPr/>
          <p:nvPr/>
        </p:nvPicPr>
        <p:blipFill>
          <a:blip r:embed="rId6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AAD8-D60D-49EA-9173-86AB7720C9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1E62-8DDA-466A-B965-B73546A828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矩形 1" descr=""/>
          <p:cNvPicPr/>
          <p:nvPr/>
        </p:nvPicPr>
        <p:blipFill>
          <a:blip r:embed="rId1"/>
          <a:stretch/>
        </p:blipFill>
        <p:spPr>
          <a:xfrm>
            <a:off x="2644920" y="2828880"/>
            <a:ext cx="4017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组合 69635"/>
          <p:cNvGrpSpPr/>
          <p:nvPr/>
        </p:nvGrpSpPr>
        <p:grpSpPr>
          <a:xfrm>
            <a:off x="266760" y="1628640"/>
            <a:ext cx="8610480" cy="3313080"/>
            <a:chOff x="266760" y="1628640"/>
            <a:chExt cx="8610480" cy="3313080"/>
          </a:xfrm>
        </p:grpSpPr>
        <p:pic>
          <p:nvPicPr>
            <p:cNvPr id="1049" name="图片 69633" descr=""/>
            <p:cNvPicPr/>
            <p:nvPr/>
          </p:nvPicPr>
          <p:blipFill>
            <a:blip r:embed="rId1"/>
            <a:stretch/>
          </p:blipFill>
          <p:spPr>
            <a:xfrm>
              <a:off x="266760" y="1628640"/>
              <a:ext cx="8610480" cy="21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图片 69634" descr=""/>
            <p:cNvPicPr/>
            <p:nvPr/>
          </p:nvPicPr>
          <p:blipFill>
            <a:blip r:embed="rId2"/>
            <a:stretch/>
          </p:blipFill>
          <p:spPr>
            <a:xfrm>
              <a:off x="754200" y="3903840"/>
              <a:ext cx="8096040" cy="103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3708360" y="272268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6300720" y="2736720"/>
            <a:ext cx="1150920" cy="438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2843280" y="3903840"/>
            <a:ext cx="1728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68609" descr=""/>
          <p:cNvPicPr/>
          <p:nvPr/>
        </p:nvPicPr>
        <p:blipFill>
          <a:blip r:embed="rId1"/>
          <a:stretch/>
        </p:blipFill>
        <p:spPr>
          <a:xfrm>
            <a:off x="344520" y="95400"/>
            <a:ext cx="8620200" cy="66672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5292720" y="62064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2556000" y="344340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3708360" y="5703840"/>
            <a:ext cx="360036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1547640" y="6251400"/>
            <a:ext cx="576108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67585" descr=""/>
          <p:cNvPicPr/>
          <p:nvPr/>
        </p:nvPicPr>
        <p:blipFill>
          <a:blip r:embed="rId1"/>
          <a:stretch/>
        </p:blipFill>
        <p:spPr>
          <a:xfrm>
            <a:off x="266760" y="2347920"/>
            <a:ext cx="8610480" cy="21621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8028000" y="292428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66561" descr=""/>
          <p:cNvPicPr/>
          <p:nvPr/>
        </p:nvPicPr>
        <p:blipFill>
          <a:blip r:embed="rId1"/>
          <a:stretch/>
        </p:blipFill>
        <p:spPr>
          <a:xfrm>
            <a:off x="257040" y="900000"/>
            <a:ext cx="8629920" cy="50580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8028000" y="313524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65537" descr=""/>
          <p:cNvPicPr/>
          <p:nvPr/>
        </p:nvPicPr>
        <p:blipFill>
          <a:blip r:embed="rId1"/>
          <a:stretch/>
        </p:blipFill>
        <p:spPr>
          <a:xfrm>
            <a:off x="262080" y="1795320"/>
            <a:ext cx="8619840" cy="32673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7956720" y="234936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5" name="组合 64515"/>
          <p:cNvGrpSpPr/>
          <p:nvPr/>
        </p:nvGrpSpPr>
        <p:grpSpPr>
          <a:xfrm>
            <a:off x="382680" y="184320"/>
            <a:ext cx="8582040" cy="6629400"/>
            <a:chOff x="382680" y="184320"/>
            <a:chExt cx="8582040" cy="6629400"/>
          </a:xfrm>
        </p:grpSpPr>
        <p:pic>
          <p:nvPicPr>
            <p:cNvPr id="1066" name="图片 64513" descr=""/>
            <p:cNvPicPr/>
            <p:nvPr/>
          </p:nvPicPr>
          <p:blipFill>
            <a:blip r:embed="rId1"/>
            <a:stretch/>
          </p:blipFill>
          <p:spPr>
            <a:xfrm>
              <a:off x="382680" y="184320"/>
              <a:ext cx="8582040" cy="38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图片 64514" descr=""/>
            <p:cNvPicPr/>
            <p:nvPr/>
          </p:nvPicPr>
          <p:blipFill>
            <a:blip r:embed="rId2"/>
            <a:stretch/>
          </p:blipFill>
          <p:spPr>
            <a:xfrm>
              <a:off x="946080" y="4061160"/>
              <a:ext cx="7962840" cy="2752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4356000" y="5718240"/>
            <a:ext cx="1079640" cy="438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3851280" y="6280200"/>
            <a:ext cx="79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63489" descr=""/>
          <p:cNvPicPr/>
          <p:nvPr/>
        </p:nvPicPr>
        <p:blipFill>
          <a:blip r:embed="rId1"/>
          <a:stretch/>
        </p:blipFill>
        <p:spPr>
          <a:xfrm>
            <a:off x="304920" y="720720"/>
            <a:ext cx="8534160" cy="58770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8028000" y="141300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62465" descr=""/>
          <p:cNvPicPr/>
          <p:nvPr/>
        </p:nvPicPr>
        <p:blipFill>
          <a:blip r:embed="rId1"/>
          <a:stretch/>
        </p:blipFill>
        <p:spPr>
          <a:xfrm>
            <a:off x="271440" y="1295280"/>
            <a:ext cx="8601120" cy="42674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2700360" y="2492280"/>
            <a:ext cx="719280" cy="4381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3"/>
          <a:stretch/>
        </p:blipFill>
        <p:spPr>
          <a:xfrm>
            <a:off x="5867280" y="2492280"/>
            <a:ext cx="719280" cy="4381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4"/>
          <a:stretch/>
        </p:blipFill>
        <p:spPr>
          <a:xfrm>
            <a:off x="1258920" y="3068640"/>
            <a:ext cx="719280" cy="4381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5"/>
          <a:stretch/>
        </p:blipFill>
        <p:spPr>
          <a:xfrm>
            <a:off x="3708360" y="3054240"/>
            <a:ext cx="719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图片 61441" descr=""/>
          <p:cNvPicPr/>
          <p:nvPr/>
        </p:nvPicPr>
        <p:blipFill>
          <a:blip r:embed="rId1"/>
          <a:stretch/>
        </p:blipFill>
        <p:spPr>
          <a:xfrm>
            <a:off x="266760" y="1157400"/>
            <a:ext cx="861048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70657" descr=""/>
          <p:cNvPicPr/>
          <p:nvPr/>
        </p:nvPicPr>
        <p:blipFill>
          <a:blip r:embed="rId1"/>
          <a:stretch/>
        </p:blipFill>
        <p:spPr>
          <a:xfrm>
            <a:off x="790560" y="1266840"/>
            <a:ext cx="7562880" cy="43243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755640" y="1327320"/>
            <a:ext cx="3816360" cy="4381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582480" y="191628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2036880" y="1873080"/>
            <a:ext cx="5056200" cy="4384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5"/>
          <a:stretch/>
        </p:blipFill>
        <p:spPr>
          <a:xfrm>
            <a:off x="7149960" y="1873080"/>
            <a:ext cx="1238400" cy="4384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6"/>
          <a:stretch/>
        </p:blipFill>
        <p:spPr>
          <a:xfrm>
            <a:off x="611280" y="2463840"/>
            <a:ext cx="5256000" cy="4381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7"/>
          <a:stretch/>
        </p:blipFill>
        <p:spPr>
          <a:xfrm>
            <a:off x="539640" y="3054240"/>
            <a:ext cx="1728720" cy="4381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8"/>
          <a:stretch/>
        </p:blipFill>
        <p:spPr>
          <a:xfrm>
            <a:off x="2268360" y="3011400"/>
            <a:ext cx="3527640" cy="4381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9"/>
          <a:stretch/>
        </p:blipFill>
        <p:spPr>
          <a:xfrm>
            <a:off x="5781600" y="3025800"/>
            <a:ext cx="2462400" cy="4381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10"/>
          <a:stretch/>
        </p:blipFill>
        <p:spPr>
          <a:xfrm>
            <a:off x="684360" y="3573360"/>
            <a:ext cx="5182920" cy="4381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11"/>
          <a:stretch/>
        </p:blipFill>
        <p:spPr>
          <a:xfrm>
            <a:off x="727200" y="4149720"/>
            <a:ext cx="1871640" cy="4381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12"/>
          <a:stretch/>
        </p:blipFill>
        <p:spPr>
          <a:xfrm>
            <a:off x="2598840" y="4149720"/>
            <a:ext cx="3268440" cy="4381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13"/>
          <a:stretch/>
        </p:blipFill>
        <p:spPr>
          <a:xfrm>
            <a:off x="5896080" y="4149720"/>
            <a:ext cx="2852640" cy="4381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14"/>
          <a:stretch/>
        </p:blipFill>
        <p:spPr>
          <a:xfrm>
            <a:off x="712800" y="4738680"/>
            <a:ext cx="3816360" cy="7779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15"/>
          <a:stretch/>
        </p:blipFill>
        <p:spPr>
          <a:xfrm>
            <a:off x="4572000" y="4754520"/>
            <a:ext cx="2232000" cy="7779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16"/>
          <a:stretch/>
        </p:blipFill>
        <p:spPr>
          <a:xfrm>
            <a:off x="6804000" y="4927680"/>
            <a:ext cx="12384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组合 60430"/>
          <p:cNvGrpSpPr/>
          <p:nvPr/>
        </p:nvGrpSpPr>
        <p:grpSpPr>
          <a:xfrm>
            <a:off x="755640" y="115920"/>
            <a:ext cx="8317080" cy="6583320"/>
            <a:chOff x="755640" y="115920"/>
            <a:chExt cx="8317080" cy="6583320"/>
          </a:xfrm>
        </p:grpSpPr>
        <p:pic>
          <p:nvPicPr>
            <p:cNvPr id="1024" name="图片 60428" descr=""/>
            <p:cNvPicPr/>
            <p:nvPr/>
          </p:nvPicPr>
          <p:blipFill>
            <a:blip r:embed="rId1"/>
            <a:stretch/>
          </p:blipFill>
          <p:spPr>
            <a:xfrm>
              <a:off x="755640" y="115920"/>
              <a:ext cx="7848720" cy="658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Picture 1" descr=""/>
            <p:cNvPicPr/>
            <p:nvPr/>
          </p:nvPicPr>
          <p:blipFill>
            <a:blip r:embed="rId2"/>
            <a:stretch/>
          </p:blipFill>
          <p:spPr>
            <a:xfrm>
              <a:off x="8567640" y="189000"/>
              <a:ext cx="505080" cy="57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7812000" y="620640"/>
            <a:ext cx="505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组合 59412"/>
          <p:cNvGrpSpPr/>
          <p:nvPr/>
        </p:nvGrpSpPr>
        <p:grpSpPr>
          <a:xfrm>
            <a:off x="747720" y="42840"/>
            <a:ext cx="8381880" cy="6745320"/>
            <a:chOff x="747720" y="42840"/>
            <a:chExt cx="8381880" cy="6745320"/>
          </a:xfrm>
        </p:grpSpPr>
        <p:pic>
          <p:nvPicPr>
            <p:cNvPr id="1028" name="图片 59410" descr=""/>
            <p:cNvPicPr/>
            <p:nvPr/>
          </p:nvPicPr>
          <p:blipFill>
            <a:blip r:embed="rId1"/>
            <a:stretch/>
          </p:blipFill>
          <p:spPr>
            <a:xfrm>
              <a:off x="747720" y="115920"/>
              <a:ext cx="8001000" cy="667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Picture 1" descr=""/>
            <p:cNvPicPr/>
            <p:nvPr/>
          </p:nvPicPr>
          <p:blipFill>
            <a:blip r:embed="rId2"/>
            <a:stretch/>
          </p:blipFill>
          <p:spPr>
            <a:xfrm>
              <a:off x="8624880" y="42840"/>
              <a:ext cx="504720" cy="72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7885080" y="324180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58373" descr=""/>
          <p:cNvPicPr/>
          <p:nvPr/>
        </p:nvPicPr>
        <p:blipFill>
          <a:blip r:embed="rId1"/>
          <a:stretch/>
        </p:blipFill>
        <p:spPr>
          <a:xfrm>
            <a:off x="276120" y="2319480"/>
            <a:ext cx="8591760" cy="22190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7093080" y="2881440"/>
            <a:ext cx="934920" cy="438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8013600" y="3457440"/>
            <a:ext cx="935280" cy="438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684360" y="4019400"/>
            <a:ext cx="136656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57352" descr=""/>
          <p:cNvPicPr/>
          <p:nvPr/>
        </p:nvPicPr>
        <p:blipFill>
          <a:blip r:embed="rId1"/>
          <a:stretch/>
        </p:blipFill>
        <p:spPr>
          <a:xfrm>
            <a:off x="271440" y="2028960"/>
            <a:ext cx="8601120" cy="28000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8043840" y="320688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56324" descr=""/>
          <p:cNvPicPr/>
          <p:nvPr/>
        </p:nvPicPr>
        <p:blipFill>
          <a:blip r:embed="rId1"/>
          <a:stretch/>
        </p:blipFill>
        <p:spPr>
          <a:xfrm>
            <a:off x="262080" y="1471680"/>
            <a:ext cx="8619840" cy="39146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8028000" y="256536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5300" descr=""/>
          <p:cNvPicPr/>
          <p:nvPr/>
        </p:nvPicPr>
        <p:blipFill>
          <a:blip r:embed="rId1"/>
          <a:stretch/>
        </p:blipFill>
        <p:spPr>
          <a:xfrm>
            <a:off x="262080" y="1476360"/>
            <a:ext cx="8619840" cy="3905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8028000" y="155088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54276" descr=""/>
          <p:cNvPicPr/>
          <p:nvPr/>
        </p:nvPicPr>
        <p:blipFill>
          <a:blip r:embed="rId1"/>
          <a:stretch/>
        </p:blipFill>
        <p:spPr>
          <a:xfrm>
            <a:off x="325440" y="189000"/>
            <a:ext cx="8639280" cy="6324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5565600" y="4221000"/>
            <a:ext cx="1814760" cy="438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5148360" y="5402160"/>
            <a:ext cx="79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52231" descr=""/>
          <p:cNvPicPr/>
          <p:nvPr/>
        </p:nvPicPr>
        <p:blipFill>
          <a:blip r:embed="rId1"/>
          <a:stretch/>
        </p:blipFill>
        <p:spPr>
          <a:xfrm>
            <a:off x="243000" y="1728720"/>
            <a:ext cx="8658000" cy="34005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187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7812000" y="3429000"/>
            <a:ext cx="1009800" cy="438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1009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3:14:0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